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E6C9-0EAE-478F-A186-C21FB0C5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7B8-6B2E-4B50-B029-4DC1A52A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B6A5-2D63-4EC9-8F2E-FA656A22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CDA-0BED-4826-887C-96443DDF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89C-099E-46EB-9AD5-2313E373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7C6-B57E-4DB7-B7F6-AFDD0A10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243-6C89-4C99-B3B9-3453847A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0BA-445F-4E60-803E-84E35874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6E3-11EF-4629-99C3-E2A7FD08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F8AB-DDCA-4D0B-954C-D3D5B566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084B-F528-45D3-9101-6060A9F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50E-F235-43E6-BA44-5226726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F0B6-8429-4AB3-A297-A481E3AAC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2:55:37Z</dcterms:created>
  <dc:creator>backup</dc:creator>
  <dc:description/>
  <dc:language>en-US</dc:language>
  <cp:lastModifiedBy>backup</cp:lastModifiedBy>
  <dcterms:modified xsi:type="dcterms:W3CDTF">2009-03-01T12:57:51Z</dcterms:modified>
  <cp:revision>1</cp:revision>
  <dc:subject/>
  <dc:title>Slide 1</dc:title>
</cp:coreProperties>
</file>